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5EC6-455A-4394-A414-F9C8FE7C3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E628-E785-4871-8C54-26A8F287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7941-B532-4630-AE4E-7E10E8CD6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AA88-FB79-4AE8-9849-27A122D09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2BE3-1968-46DA-BEC2-AB042E24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11B5-92CF-4ABE-92D1-340BE081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A0CD-DA6A-4C63-ADA6-B74CB4E5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88AB-432D-4C93-BD88-E5F02889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7DC3-0EF7-4E64-A857-DA16CC8D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F479-59F3-4D93-A60D-6FCA90B3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DA16-4B30-4511-8821-162D606B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EAA8-546D-4AE4-8681-9FC04E50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BF54-5899-46B4-978E-8AC098AAB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ICLO    DE    VIDAS    DE   LOS   OCÉ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OCÉAN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SON  LOS  RASGOS  MAS  IMPORTANTES  DE  LA  SUPERFICIE  DE   LA  TIERRA,  Y  SU  EXISTENCIA  Y   EVOLUCIÓN    CONTROLA  MUCHO   DE   LOS  PROCESOS  GEOLÓGICOS   MAS   NOTABLES   DEL  PLANE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UNO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CÉAN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HAN   APARECIDO   SOBRE    LA   FAZ   DE   LA  TIERRA     MAS   RECIENTEMENTE   QUE  OTROS,  Y   OTROS  EXISTEN   DESDE   TIEMPOS  MUY  ANTIGUO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AMBIÉN,   ALGUNAS  PARTES  DE   UN  MISMO   OCÉANO  SON  MAS  VIEJAS   O   MAS  JÓVENES  QUE  OT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ENCAS  OCEÁNICAS  SE  INICIA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(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  NACE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,   A   PARTIR   DE   UN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IFTING  CONTINENT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Y  TERMINAN   (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  MUERE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,     BAJO  EL  EFECTO  DE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UBDUCCIÓN   LITOSFÉR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 SU  DESARROLLO   ES  PROGRESIVO  Y  SU  EVOLUCIÓN   E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ÍCL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ENCAS  OCEÁNICAS  CRECEN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SDE  SU INICIO,   DE   MUY  PEQUEÑAS  HASTA  UN  MÁXIMO,  Y  DESPUÉ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 CONTRAEN  Y  RECOGE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(VUELVEN  A   SER   PEQUEÑOS),   HASTA DESAPARECER  EN  ALGUNOS CAS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CICLO  DE VIDA   DE  LOS  OCÉAN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FUE     PROPUESTO   POR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TUZO  WILSO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EN  1968,   QUIÉN  DEFINIÓ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EIS  ETAPAS  DE   DESARROLL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CADA  UNA  DE   ELLAS   REPRESENTADA   HOY   DÍA   SOBRE  LA  FAZ    DE    LA TIERRA,   POR   OCÉANOS   REALES,   O   POR     ESTRUCTURAS   GLOBALES   Y  PECULIARES  EXISTENTES  EN  DETERMINADOS  LUGARES DEL PLAN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ICLO    DE   VIDA    DE    LOS    OCÉANOS    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(continuació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TAPA   1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STADO  EMBRIONARI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Ej:  RIFT -  VALLEYS  ESTE   AFRICANO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vimiento  dominante:  levanta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TAPA   2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STADO  JÓVEN.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j:  MAR  ROJO;  GOLFO  DE  ADÉN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vimiento  dominante:  expans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TAPA   3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ESTADO   MADURO.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j  OCÉANO  ATLÁNTICO.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vimiento  dominante:  expasí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TAPA   4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ESTADO   DECLINANTE.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j:  OCÉANO  PACÍFICO.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vimiento dominante:  contr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 baseline="-2000">
                <a:solidFill>
                  <a:srgbClr val="ffffff"/>
                </a:solidFill>
                <a:uFillTx/>
                <a:latin typeface="Times New Roman"/>
              </a:rPr>
              <a:t>ETAPA   5</a:t>
            </a:r>
            <a:r>
              <a:rPr b="0" i="1" lang="es-ES_tradnl" sz="2800" spc="-1" strike="noStrike" baseline="-2000">
                <a:solidFill>
                  <a:srgbClr val="ffffff"/>
                </a:solidFill>
                <a:latin typeface="Times New Roman"/>
              </a:rPr>
              <a:t>      ESTADO   TERMINAL.            </a:t>
            </a:r>
            <a:r>
              <a:rPr b="0" lang="es-ES_tradnl" sz="2800" spc="-1" strike="noStrike" baseline="-2000">
                <a:solidFill>
                  <a:srgbClr val="ffffff"/>
                </a:solidFill>
                <a:latin typeface="Times New Roman"/>
              </a:rPr>
              <a:t>Ej.  MAR  MEDITERRÁNEO.                              Movimiento  dominante:  contracción  y  levan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 baseline="-2000">
                <a:solidFill>
                  <a:srgbClr val="ffffff"/>
                </a:solidFill>
                <a:uFillTx/>
                <a:latin typeface="Times New Roman"/>
              </a:rPr>
              <a:t>ETAPA   6</a:t>
            </a:r>
            <a:r>
              <a:rPr b="1" lang="es-ES_tradnl" sz="2800" spc="-1" strike="noStrike" baseline="-2000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s-ES_tradnl" sz="2800" spc="-1" strike="noStrike" baseline="-2000">
                <a:solidFill>
                  <a:srgbClr val="ffffff"/>
                </a:solidFill>
                <a:latin typeface="Times New Roman"/>
              </a:rPr>
              <a:t>ESTADO    RELICTO. (CICATRIZADO).   </a:t>
            </a:r>
            <a:r>
              <a:rPr b="0" lang="es-ES_tradnl" sz="2800" spc="-1" strike="noStrike" baseline="-2000">
                <a:solidFill>
                  <a:srgbClr val="ffffff"/>
                </a:solidFill>
                <a:latin typeface="Times New Roman"/>
              </a:rPr>
              <a:t>Ej:   SUTURA  ÍNDICA  DE   LOS   HIMALAYAS.  Movimiento  dominante:  </a:t>
            </a:r>
            <a:r>
              <a:rPr b="0" lang="es-ES_tradnl" sz="3200" spc="-1" strike="noStrike" baseline="-2000">
                <a:solidFill>
                  <a:srgbClr val="ffffff"/>
                </a:solidFill>
                <a:latin typeface="Times New Roman"/>
              </a:rPr>
              <a:t>contracción  y  levant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30T00:12:08Z</dcterms:created>
  <dc:creator>Universidad de Chile</dc:creator>
  <dc:description/>
  <dc:language>en-US</dc:language>
  <cp:lastModifiedBy>Universidad de Chile</cp:lastModifiedBy>
  <cp:lastPrinted>2001-06-30T01:22:51Z</cp:lastPrinted>
  <dcterms:modified xsi:type="dcterms:W3CDTF">2001-06-30T01:29:03Z</dcterms:modified>
  <cp:revision>2</cp:revision>
  <dc:subject/>
  <dc:title>CICLO    DE    VIDAS    DE   LOS   OCÉANOS</dc:title>
</cp:coreProperties>
</file>